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3EE9-8FA0-4027-B495-F2E19BE979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C98C-39D5-40CB-AB6E-184589C6F3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1DE-9A79-45CA-A97D-04728282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173-294F-477A-9F1E-EFFCFDD8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8E1-54DB-4408-9BAF-4C632238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897-0B27-4FB8-A652-9B0AFE04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AEE-5178-4B3E-8CCE-4247D3E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3D9-F190-4D3F-9793-134A825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E57-3961-47C8-A834-0E0BE17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646-8905-406E-826A-E6A862C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327-2E3F-4445-84D7-DBE59042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D64-2F32-4406-B6CB-773CA34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2B0-14B8-419F-B4A2-2101DD4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30C-C262-42B8-9EB9-F09FF1D8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869A-D3AD-4380-AA55-32B4583E0E6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onnecteur droit 5" descr=""/>
          <p:cNvPicPr/>
          <p:nvPr/>
        </p:nvPicPr>
        <p:blipFill>
          <a:blip r:embed="rId2"/>
          <a:stretch/>
        </p:blipFill>
        <p:spPr>
          <a:xfrm>
            <a:off x="139680" y="1347840"/>
            <a:ext cx="8967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nfections septicémiques et endocard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thérapeu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ommandations européenne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u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,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staphylococciques (en association en cas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du p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eta-lactam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nergistines, lincosanides (clindamyc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utres : fluoroquinolone, rifampicine, acide fusidique, fosfomycine, glycopeptides, aminosides, linézolide, dapto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énicil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linda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stéo-arti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énicilline anti staphylococcique e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rifampicine, acide fusidique, fosfomycine, clindamycine = bonne pénétration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lycopeptides en association au début du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aux antistaphylococciques : daptomycine à évaluer, linézo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odalités d'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des meilleures données pharmacologiques et pharmacodyna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ur prévisionnel d'effica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minimales inhibitrices/bactér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otients inhib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ire sous la cou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voir bactéricide du sé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Modalités / durée du 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intraveineuse continue ou discontinue selon les propriétés pharmacologiques et pharmacodyna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orale uniquement dans certaines situations particulières (typhoïde, brucellose, utilisation de fluoroquino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vilégier les associations bactéricides synergiques en début d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(inoculum important, risque sept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viter les antibiotiques bactériostatiques (macrolides, cyc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rée variable selon la porte d'entrée et surtout les localisation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moyenne deux à quatre se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ins si porte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rée urinaire ou pulmonaire ou méni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Endocar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éfinition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du tissu endothélial recouvrant les valves cardiaques, favorisée par des lésions préexist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équence : lésions destructrices ou végé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es cliniques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baiguë "d'Osler" / aiguës (staphylocoqu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r valves mécaniques/nativ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rtalité : 16 % variable selon le microorganisme en cause (plus de 50 % de mortalité pour les endocardites à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andid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non group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D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bovi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 galolytic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téroc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(groupe HACEK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rtonella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oxiella burneti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Particularités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ctéricidi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ntrations bactéricides dans la valve (tissu de pénétration difficile, absence de réaction inflammato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ologie éle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urée longue (4 à 6 sema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itoring de l'antibiothérapi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staphyl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71440" y="1844640"/>
            <a:ext cx="860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entér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0080" y="1476360"/>
            <a:ext cx="76838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rincipes de base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potentiellement sév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aiguë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tilisation des associations d'antibiotiques pour améliorer l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herche de sy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du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biothérapie par voie intravein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oix selon la porte d'entrée présu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en fonction de l'isolement du micro organisme et de son antibi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 particulier: endoca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subaigu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itement empirique dis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empi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3160" y="1222200"/>
            <a:ext cx="87976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867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esur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irurgie si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oc, IC, TDC, valve prothétique, grosse végétation, fièvre persi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veillance rapprochée et prolon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liniqu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hographie cardi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prophylax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lon le type de cardiopathie et la chiru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3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 pristinamycine 1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2g IV 1h avant, 1g po 6h apr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ncomycine 1g 1h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Antibiothérapie initiale 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tion et critères d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onnaissance du syndrome septic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RIS, 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èvre, tachycardie, frisson, marbr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int d'appel 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itement empirique à adapter se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porte d'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localisation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ignes de gra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istence d'un état de c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ute tensionn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ractère nosoc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uvelles définitions du sep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MA 23 février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défini comme une dysfonction d’organe menaçant le pronostic vital et causé par une réponse inappropriée de l’hôte à une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Il n’y a plus de distinguo sepsis/sepsis gr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gmentation du score SOFA (Sequential Organ Failure Assessment) d’au moins 2 points lié à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ore SO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critères simplifiés, utilisables hors réanimation, pour dépistage de patients pouvant avoir un seps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Pression artérielle systolique ≤ 100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Fréquence respiratoire ≥ 22/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La présence de 2 critères quick SOFA (qSOFA) identifie des patients risquant d’avoir un mauvais pronostic et justifiant d’un monitorage accru, et/ou d’un traitement spécifique et/ou de prendre un avis en réani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c se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 est défini par l’association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Besoin de drogues vasopressives pour maintenir une PAM ≥ 6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Lactates &gt; 2 mmol/l (18mg/dl) malgré un remplissage adéq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Staphylocoques blancs : porte d'entrée cu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eptocoque (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galacti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 (porte d'entrée digestive, uri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 aeruginos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cinetobact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caractère nosocomial, sujets fragilis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aér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 d'entrée 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plus rares : corynebacteries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Neisseria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méningoco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evaluation à 48-72 heures selon l'antibiogramme en respectant les mêmes règles de prescrip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érêt de la desescalade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icacité plutôt que le spec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a tolé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rinaire (pyélonéphrite, prostat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phalosporines de troisième génération +/- aminosi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+/-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lm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oxicilline, céphalosporines de troisièm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crolides et appar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lles fluoroquinolones en deuxièm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ges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 + anaérobies + entér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ociation céphalosporine ou pénicilline à spectre large +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ni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ningocoque, 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43:54Z</dcterms:created>
  <dc:creator>yves hansmann</dc:creator>
  <dc:description/>
  <dc:language>en-US</dc:language>
  <cp:lastModifiedBy>HANSMANN Yves</cp:lastModifiedBy>
  <dcterms:modified xsi:type="dcterms:W3CDTF">2019-03-01T13:51:06Z</dcterms:modified>
  <cp:revision>16</cp:revision>
  <dc:subject/>
  <dc:title>Infections septicémiques et endocardites schémas thérapeutiques</dc:title>
</cp:coreProperties>
</file>